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79C-3768-453B-A24E-2D86AC56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F3FC-BB10-4A22-8FE0-34356F27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E79-2D73-4759-BF0F-8B1CDB87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59B9-9ED9-4EBF-9A2D-B09DF052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57ED-F420-4EDD-8017-07DDF600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E676-174F-4235-A003-7405A29C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2F18-6D21-408D-9DC6-C88473FE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AD95-139F-419B-9607-014CE784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F3D5-05FA-409E-9575-C1B8BA88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3836-0EE4-4A4A-BCEE-E26735E5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246A-E16B-4463-9692-44E8FC63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88D-A2EE-46A1-8375-4F02B0547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8FFB-F6A3-455F-B4ED-D86E8B9F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A0F3-C5BE-4B2B-A86E-1FA93887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6061-354F-48DD-9D4B-63779E6C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8EB0-484C-4366-BD4F-6A64D6750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49DD-4784-460A-9CAA-535C66BB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DE2C-5EB6-403B-AD73-C2122CA8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F13-9EE5-4461-A03E-E181CB5C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45B2-DA04-4118-936E-0B22895C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E7F3-65BA-4C11-8F75-E389CD73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5DD-52A3-47FC-9F88-D6F49CCB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F25-0DD0-4EE9-A5DB-A2F94663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72D-7A5A-4AEF-B3C1-DD676BF7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8692-F377-4CD3-89C2-7D975B56746F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6D4B-92CB-40C2-B3D1-EFE10A47A54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7B4B-44C5-491C-BF52-E808B5432DD1}" type="datetime">
              <a:rPr b="0" lang="zh-CN" sz="1000" spc="-1" strike="noStrike">
                <a:solidFill>
                  <a:srgbClr val="000000"/>
                </a:solidFill>
                <a:latin typeface="Verdana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55EB-6AC5-4CF6-9AD8-AEB654D0C4A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CA78-BDC0-43B0-AC31-E06C7454BA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763280" y="2781000"/>
            <a:ext cx="73803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一节 个性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节 自我概念与消费者行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三节 生活方式与消费者行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79280" y="765000"/>
            <a:ext cx="8964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c0000"/>
                </a:solidFill>
                <a:latin typeface="黑体"/>
                <a:ea typeface="黑体"/>
              </a:rPr>
              <a:t>第四章 消费者的个性、自我概念与生活方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8F7D-15B1-4584-BDCE-20C73227622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矩形 7"/>
          <p:cNvSpPr/>
          <p:nvPr/>
        </p:nvSpPr>
        <p:spPr>
          <a:xfrm>
            <a:off x="539640" y="1052640"/>
            <a:ext cx="78487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2" name="组合 351"/>
          <p:cNvGrpSpPr/>
          <p:nvPr/>
        </p:nvGrpSpPr>
        <p:grpSpPr>
          <a:xfrm>
            <a:off x="611280" y="2276640"/>
            <a:ext cx="7345440" cy="3097080"/>
            <a:chOff x="611280" y="2276640"/>
            <a:chExt cx="7345440" cy="3097080"/>
          </a:xfrm>
        </p:grpSpPr>
        <p:sp>
          <p:nvSpPr>
            <p:cNvPr id="213" name="矩形 27"/>
            <p:cNvSpPr/>
            <p:nvPr/>
          </p:nvSpPr>
          <p:spPr>
            <a:xfrm>
              <a:off x="611280" y="2276640"/>
              <a:ext cx="73454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14" name="Group 313"/>
            <p:cNvGrpSpPr/>
            <p:nvPr/>
          </p:nvGrpSpPr>
          <p:grpSpPr>
            <a:xfrm>
              <a:off x="1830600" y="2276640"/>
              <a:ext cx="5003640" cy="2909160"/>
              <a:chOff x="1830600" y="2276640"/>
              <a:chExt cx="5003640" cy="2909160"/>
            </a:xfrm>
          </p:grpSpPr>
          <p:sp>
            <p:nvSpPr>
              <p:cNvPr id="215" name="Rectangle 314"/>
              <p:cNvSpPr/>
              <p:nvPr/>
            </p:nvSpPr>
            <p:spPr>
              <a:xfrm>
                <a:off x="3567960" y="4437000"/>
                <a:ext cx="14130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象征产品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6" name="Rectangle 315"/>
              <p:cNvSpPr/>
              <p:nvPr/>
            </p:nvSpPr>
            <p:spPr>
              <a:xfrm>
                <a:off x="3868920" y="2276640"/>
                <a:ext cx="81072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7" name="Rectangle 316"/>
              <p:cNvSpPr/>
              <p:nvPr/>
            </p:nvSpPr>
            <p:spPr>
              <a:xfrm>
                <a:off x="1830600" y="2535840"/>
                <a:ext cx="111168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自我概念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8" name="Rectangle 317"/>
              <p:cNvSpPr/>
              <p:nvPr/>
            </p:nvSpPr>
            <p:spPr>
              <a:xfrm>
                <a:off x="5606640" y="2535840"/>
                <a:ext cx="1227600" cy="74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参照群体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340000" y="3284280"/>
                <a:ext cx="1227960" cy="1527120"/>
                <a:chOff x="2340000" y="3284280"/>
                <a:chExt cx="1227960" cy="1527120"/>
              </a:xfrm>
            </p:grpSpPr>
            <p:cxnSp>
              <p:nvCxnSpPr>
                <p:cNvPr id="220" name="AutoShape 318"/>
                <p:cNvCxnSpPr/>
                <p:nvPr/>
              </p:nvCxnSpPr>
              <p:spPr>
                <a:xfrm>
                  <a:off x="23400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1" name=""/>
                <p:cNvSpPr txBox="1"/>
                <p:nvPr/>
              </p:nvSpPr>
              <p:spPr>
                <a:xfrm rot="16200000">
                  <a:off x="2190240" y="343404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41920" y="2909880"/>
                <a:ext cx="2664360" cy="720"/>
                <a:chOff x="2941920" y="2909880"/>
                <a:chExt cx="2664360" cy="720"/>
              </a:xfrm>
            </p:grpSpPr>
            <p:cxnSp>
              <p:nvCxnSpPr>
                <p:cNvPr id="223" name="AutoShape 319"/>
                <p:cNvCxnSpPr/>
                <p:nvPr/>
              </p:nvCxnSpPr>
              <p:spPr>
                <a:xfrm flipH="1">
                  <a:off x="2941920" y="2909880"/>
                  <a:ext cx="2664720" cy="10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4" name=""/>
                <p:cNvSpPr txBox="1"/>
                <p:nvPr/>
              </p:nvSpPr>
              <p:spPr>
                <a:xfrm>
                  <a:off x="2942280" y="2909880"/>
                  <a:ext cx="266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80600" y="3284280"/>
                <a:ext cx="1227960" cy="1527120"/>
                <a:chOff x="4980600" y="3284280"/>
                <a:chExt cx="1227960" cy="1527120"/>
              </a:xfrm>
            </p:grpSpPr>
            <p:cxnSp>
              <p:nvCxnSpPr>
                <p:cNvPr id="226" name="AutoShape 320"/>
                <p:cNvCxnSpPr/>
                <p:nvPr/>
              </p:nvCxnSpPr>
              <p:spPr>
                <a:xfrm flipH="1">
                  <a:off x="4980600" y="3284280"/>
                  <a:ext cx="1228320" cy="1527480"/>
                </a:xfrm>
                <a:prstGeom prst="straightConnector1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227" name=""/>
                <p:cNvSpPr txBox="1"/>
                <p:nvPr/>
              </p:nvSpPr>
              <p:spPr>
                <a:xfrm rot="5400000">
                  <a:off x="4831200" y="3433680"/>
                  <a:ext cx="1526760" cy="122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Rectangle 321"/>
              <p:cNvSpPr/>
              <p:nvPr/>
            </p:nvSpPr>
            <p:spPr>
              <a:xfrm>
                <a:off x="2525400" y="4177800"/>
                <a:ext cx="83376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Rectangle 322"/>
              <p:cNvSpPr/>
              <p:nvPr/>
            </p:nvSpPr>
            <p:spPr>
              <a:xfrm>
                <a:off x="5189400" y="4177800"/>
                <a:ext cx="926640" cy="51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阶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30" name="Rectangle 39"/>
          <p:cNvSpPr/>
          <p:nvPr/>
        </p:nvSpPr>
        <p:spPr>
          <a:xfrm>
            <a:off x="1403280" y="5517360"/>
            <a:ext cx="60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象征产品在自我与他人之间的沟通作用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0917-4AB9-4B12-804F-FDAC2F0D233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6560" y="142920"/>
            <a:ext cx="721692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自我概念的营销启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908000" y="1915920"/>
            <a:ext cx="6778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新产品开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3529-370B-46E3-AB61-F53A6220E5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四、自我概念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28280"/>
            <a:ext cx="8686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测量自我概念的常用工具是语义差别量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美国学者马赫塔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N. K. Malhotr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设计了一种既可以测量自我概念，又可以衡量产品形象的语义差别量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a50101"/>
                </a:solidFill>
                <a:latin typeface="黑体"/>
                <a:ea typeface="黑体"/>
              </a:rPr>
              <a:t>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该量表是由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双极形容词组成的一个语义区分量表。该量表可以获得消费者所期望的产品形象方面的信息，也可以了解消费者对现在产品的评价，从而找出产品形象改进的方向，更好地满足消费者需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E4FB-696F-468A-B708-5B48B60AD0F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755640" y="38160"/>
            <a:ext cx="7056360" cy="681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A837-03C4-4A98-8045-70E7C8E78F3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三节 生活方式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619280" y="1719360"/>
            <a:ext cx="7067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生活方式的含义与特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生活方式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生活方式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C275-4C52-4D47-B71D-CFF5F8C125A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1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生活方式的含义与特征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196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含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们以活动、兴趣和观点的形式表现出来的在世界上的生活模式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菲利普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科特勒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生活方式的特点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eldman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&amp; Thielbar, 197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是一种群体现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覆盖了生活的各个方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反映了一个人的核心生活利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方式在不同人口统计变量上表现出差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0CAC-CBCB-4809-ADFD-BDB250FB1A9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生活方式的测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547280" y="1719360"/>
            <a:ext cx="71391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1AD8-B103-4F97-A4DB-31B2515837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5676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IO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696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7B9C-531D-45DD-A4B1-9336662DD76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539640" y="1628640"/>
            <a:ext cx="8342280" cy="4248360"/>
            <a:chOff x="539640" y="1628640"/>
            <a:chExt cx="8342280" cy="4248360"/>
          </a:xfrm>
        </p:grpSpPr>
        <p:sp>
          <p:nvSpPr>
            <p:cNvPr id="262" name="AutoShape 5"/>
            <p:cNvSpPr/>
            <p:nvPr/>
          </p:nvSpPr>
          <p:spPr>
            <a:xfrm>
              <a:off x="539640" y="1628640"/>
              <a:ext cx="834228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63" name="Group 6"/>
            <p:cNvGrpSpPr/>
            <p:nvPr/>
          </p:nvGrpSpPr>
          <p:grpSpPr>
            <a:xfrm>
              <a:off x="732600" y="2020680"/>
              <a:ext cx="7699680" cy="3587400"/>
              <a:chOff x="732600" y="2020680"/>
              <a:chExt cx="7699680" cy="3587400"/>
            </a:xfrm>
          </p:grpSpPr>
          <p:sp>
            <p:nvSpPr>
              <p:cNvPr id="264" name="Line 7"/>
              <p:cNvSpPr/>
              <p:nvPr/>
            </p:nvSpPr>
            <p:spPr>
              <a:xfrm>
                <a:off x="1392840" y="2020680"/>
                <a:ext cx="1080" cy="318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5" name="Rectangle 8"/>
              <p:cNvSpPr/>
              <p:nvPr/>
            </p:nvSpPr>
            <p:spPr>
              <a:xfrm>
                <a:off x="2491200" y="2286000"/>
                <a:ext cx="131976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6" name="Rectangle 9"/>
              <p:cNvSpPr/>
              <p:nvPr/>
            </p:nvSpPr>
            <p:spPr>
              <a:xfrm>
                <a:off x="469152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7" name="Rectangle 10"/>
              <p:cNvSpPr/>
              <p:nvPr/>
            </p:nvSpPr>
            <p:spPr>
              <a:xfrm>
                <a:off x="6893640" y="2286000"/>
                <a:ext cx="1320840" cy="2525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8" name="AutoShape 11"/>
              <p:cNvSpPr/>
              <p:nvPr/>
            </p:nvSpPr>
            <p:spPr>
              <a:xfrm>
                <a:off x="2272320" y="2152080"/>
                <a:ext cx="176004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思考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69" name="AutoShape 12"/>
              <p:cNvSpPr/>
              <p:nvPr/>
            </p:nvSpPr>
            <p:spPr>
              <a:xfrm>
                <a:off x="2272320" y="3083760"/>
                <a:ext cx="1760040" cy="119556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信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0" name="AutoShape 13"/>
              <p:cNvSpPr/>
              <p:nvPr/>
            </p:nvSpPr>
            <p:spPr>
              <a:xfrm>
                <a:off x="4376880" y="2500200"/>
                <a:ext cx="175860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成就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1" name="AutoShape 14"/>
              <p:cNvSpPr/>
              <p:nvPr/>
            </p:nvSpPr>
            <p:spPr>
              <a:xfrm>
                <a:off x="4472640" y="3215520"/>
                <a:ext cx="1758960" cy="11966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奋争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2" name="AutoShape 15"/>
              <p:cNvSpPr/>
              <p:nvPr/>
            </p:nvSpPr>
            <p:spPr>
              <a:xfrm>
                <a:off x="4472640" y="4014360"/>
                <a:ext cx="1758960" cy="119484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求存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3" name="AutoShape 16"/>
              <p:cNvSpPr/>
              <p:nvPr/>
            </p:nvSpPr>
            <p:spPr>
              <a:xfrm>
                <a:off x="6673320" y="215208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体验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4" name="AutoShape 17"/>
              <p:cNvSpPr/>
              <p:nvPr/>
            </p:nvSpPr>
            <p:spPr>
              <a:xfrm>
                <a:off x="6673320" y="2950200"/>
                <a:ext cx="1758960" cy="11977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制造者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5" name="Rectangle 18"/>
              <p:cNvSpPr/>
              <p:nvPr/>
            </p:nvSpPr>
            <p:spPr>
              <a:xfrm>
                <a:off x="1171440" y="5209200"/>
                <a:ext cx="6613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低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6" name="Rectangle 19"/>
              <p:cNvSpPr/>
              <p:nvPr/>
            </p:nvSpPr>
            <p:spPr>
              <a:xfrm>
                <a:off x="732600" y="2286000"/>
                <a:ext cx="660240" cy="278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资源丰富程度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77" name="Rectangle 20"/>
            <p:cNvSpPr/>
            <p:nvPr/>
          </p:nvSpPr>
          <p:spPr>
            <a:xfrm>
              <a:off x="2712960" y="5475960"/>
              <a:ext cx="109836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理想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Rectangle 21"/>
            <p:cNvSpPr/>
            <p:nvPr/>
          </p:nvSpPr>
          <p:spPr>
            <a:xfrm>
              <a:off x="491256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就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Rectangle 22"/>
            <p:cNvSpPr/>
            <p:nvPr/>
          </p:nvSpPr>
          <p:spPr>
            <a:xfrm>
              <a:off x="7112880" y="5475960"/>
              <a:ext cx="109944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自我表达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AutoShape 23"/>
            <p:cNvSpPr/>
            <p:nvPr/>
          </p:nvSpPr>
          <p:spPr>
            <a:xfrm>
              <a:off x="4377600" y="1628640"/>
              <a:ext cx="1758600" cy="1197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新者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C84B-0EFA-4F04-A031-7D0FD87F624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39640" y="1267920"/>
            <a:ext cx="815832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个人因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决策影响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产品变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468360" y="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-ICP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7488000" cy="3168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2B2B-36BB-4B4C-A11C-074EF3125C5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一节 个性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19280" y="1988640"/>
            <a:ext cx="706752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消费者个性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个性与消费者行为的关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B38B-9929-46E1-B691-5743CC09CB4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179280" y="189000"/>
            <a:ext cx="754380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ina--Vals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343640" cy="5545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F1AB-86B1-4C97-9737-F5A1D7851F3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三、生活方式研究在消费者行为中的作用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92000" y="2708280"/>
            <a:ext cx="67784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市场细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品牌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生活方式与广告策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0EC28-4CDF-45BC-876D-6DF4477C61E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消费者个性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26920" y="1483920"/>
            <a:ext cx="7871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决定和反映个人如何适应环境的内在心理特征，包括使某一个体与其他个体相区别的具体特质、属性、特征、因素和态度等多个方面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Schiffman &amp; Kanu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的特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差异性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稳定性       </a:t>
            </a: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♣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塑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28E1-A5D1-4FC9-AA7A-730947686EC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1547640" y="1844640"/>
            <a:ext cx="7324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购买前的信息收集阶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商店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个性与喜爱售货员的类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spcAft>
                <a:spcPts val="60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个性与品牌的选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9BF4-8F6F-4E20-97C2-D4C4A55BD0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个性与消费者行为的关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Group 325"/>
          <p:cNvGrpSpPr/>
          <p:nvPr/>
        </p:nvGrpSpPr>
        <p:grpSpPr>
          <a:xfrm>
            <a:off x="539640" y="1844640"/>
            <a:ext cx="8135640" cy="3673080"/>
            <a:chOff x="539640" y="1844640"/>
            <a:chExt cx="8135640" cy="3673080"/>
          </a:xfrm>
        </p:grpSpPr>
        <p:sp>
          <p:nvSpPr>
            <p:cNvPr id="169" name="Rectangle 326"/>
            <p:cNvSpPr/>
            <p:nvPr/>
          </p:nvSpPr>
          <p:spPr>
            <a:xfrm>
              <a:off x="3714840" y="1844640"/>
              <a:ext cx="218376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品牌个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Rectangle 327"/>
            <p:cNvSpPr/>
            <p:nvPr/>
          </p:nvSpPr>
          <p:spPr>
            <a:xfrm>
              <a:off x="539640" y="2890080"/>
              <a:ext cx="119052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328"/>
            <p:cNvSpPr/>
            <p:nvPr/>
          </p:nvSpPr>
          <p:spPr>
            <a:xfrm>
              <a:off x="2324880" y="2890080"/>
              <a:ext cx="118908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Rectangle 329"/>
            <p:cNvSpPr/>
            <p:nvPr/>
          </p:nvSpPr>
          <p:spPr>
            <a:xfrm>
              <a:off x="4111560" y="2890080"/>
              <a:ext cx="118800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有能力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Rectangle 330"/>
            <p:cNvSpPr/>
            <p:nvPr/>
          </p:nvSpPr>
          <p:spPr>
            <a:xfrm>
              <a:off x="58986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Rectangle 331"/>
            <p:cNvSpPr/>
            <p:nvPr/>
          </p:nvSpPr>
          <p:spPr>
            <a:xfrm>
              <a:off x="7486200" y="2890080"/>
              <a:ext cx="1187640" cy="44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强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Rectangle 332"/>
            <p:cNvSpPr/>
            <p:nvPr/>
          </p:nvSpPr>
          <p:spPr>
            <a:xfrm>
              <a:off x="2123280" y="3935880"/>
              <a:ext cx="158364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活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勇敢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想象力丰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时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Rectangle 333"/>
            <p:cNvSpPr/>
            <p:nvPr/>
          </p:nvSpPr>
          <p:spPr>
            <a:xfrm>
              <a:off x="539640" y="3935880"/>
              <a:ext cx="1188000" cy="149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诚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务实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健康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欢乐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Rectangle 334"/>
            <p:cNvSpPr/>
            <p:nvPr/>
          </p:nvSpPr>
          <p:spPr>
            <a:xfrm>
              <a:off x="4111560" y="3935880"/>
              <a:ext cx="1188000" cy="134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智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可信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成功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335"/>
            <p:cNvSpPr/>
            <p:nvPr/>
          </p:nvSpPr>
          <p:spPr>
            <a:xfrm>
              <a:off x="5897160" y="3935880"/>
              <a:ext cx="1190520" cy="122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迷人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高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336"/>
            <p:cNvSpPr/>
            <p:nvPr/>
          </p:nvSpPr>
          <p:spPr>
            <a:xfrm>
              <a:off x="7486200" y="3935880"/>
              <a:ext cx="1189080" cy="114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坚韧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户外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180" name="AutoShape 337"/>
            <p:cNvCxnSpPr/>
            <p:nvPr/>
          </p:nvCxnSpPr>
          <p:spPr>
            <a:xfrm rot="5400000">
              <a:off x="4604760" y="-581760"/>
              <a:ext cx="1440" cy="6944760"/>
            </a:xfrm>
            <a:prstGeom prst="bentConnector3">
              <a:avLst>
                <a:gd name="adj1" fmla="val -360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338"/>
            <p:cNvCxnSpPr/>
            <p:nvPr/>
          </p:nvCxnSpPr>
          <p:spPr>
            <a:xfrm flipH="1">
              <a:off x="1133280" y="3337560"/>
              <a:ext cx="180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339"/>
            <p:cNvCxnSpPr/>
            <p:nvPr/>
          </p:nvCxnSpPr>
          <p:spPr>
            <a:xfrm flipH="1">
              <a:off x="2918880" y="3338280"/>
              <a:ext cx="324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340"/>
            <p:cNvCxnSpPr/>
            <p:nvPr/>
          </p:nvCxnSpPr>
          <p:spPr>
            <a:xfrm flipH="1">
              <a:off x="4705560" y="3338280"/>
              <a:ext cx="46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341"/>
            <p:cNvCxnSpPr/>
            <p:nvPr/>
          </p:nvCxnSpPr>
          <p:spPr>
            <a:xfrm flipH="1">
              <a:off x="64933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342"/>
            <p:cNvCxnSpPr/>
            <p:nvPr/>
          </p:nvCxnSpPr>
          <p:spPr>
            <a:xfrm flipH="1">
              <a:off x="8080920" y="3338280"/>
              <a:ext cx="396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6" name="AutoShape 343"/>
            <p:cNvCxnSpPr/>
            <p:nvPr/>
          </p:nvCxnSpPr>
          <p:spPr>
            <a:xfrm>
              <a:off x="2919240" y="2591280"/>
              <a:ext cx="180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7" name="AutoShape 344"/>
            <p:cNvCxnSpPr/>
            <p:nvPr/>
          </p:nvCxnSpPr>
          <p:spPr>
            <a:xfrm>
              <a:off x="6492960" y="2591280"/>
              <a:ext cx="3240" cy="299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88" name="Line 345"/>
            <p:cNvSpPr/>
            <p:nvPr/>
          </p:nvSpPr>
          <p:spPr>
            <a:xfrm>
              <a:off x="4706280" y="2292120"/>
              <a:ext cx="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FC6F-0D48-4F19-8CC9-07E2A20454D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第二节 自我概念与消费者行为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050560" y="1928880"/>
            <a:ext cx="68216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一、自我概念概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二、自我概念的理论模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三、自我概念的营销启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62120" indent="-76212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四、自我概念的测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1C47-C180-4F18-B9AE-48D94FA460A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3640" y="1413000"/>
            <a:ext cx="85690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定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称为自我形象，是指个人对自己的能力、气质、性格等个性特征的感知、态度和自我评价，即个体如何看待自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消费者的自我概念的形成过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自己的观察推断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他人对自己的评价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50101"/>
                </a:solidFill>
                <a:latin typeface="黑体"/>
                <a:ea typeface="黑体"/>
              </a:rPr>
              <a:t>    ♣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通过社会比较形成自我概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A3BA-970A-4B4F-9309-D815B078646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615080" cy="8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一、自我概念概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1052640"/>
            <a:ext cx="85694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自我概念的构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830880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B-ch4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A579-8DB4-44F4-841D-7423BCDA28B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101"/>
                </a:solidFill>
                <a:latin typeface="黑体"/>
                <a:ea typeface="黑体"/>
              </a:rPr>
              <a:t>二、自我概念的理论模型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矩形 7"/>
          <p:cNvSpPr/>
          <p:nvPr/>
        </p:nvSpPr>
        <p:spPr>
          <a:xfrm>
            <a:off x="539640" y="1052640"/>
            <a:ext cx="784872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强化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我概念对个体有价值，个体行为趋向于维护和强化自我概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环境自我概念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体在特定的环境下，希望他人如何看待自己。包括与自己相联系的态度、知觉和情感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buClr>
                <a:srgbClr val="7030a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自我形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产品形象一致理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包含形象意义的产品通常会激发包含同样形象的自我概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3:34:19Z</dcterms:created>
  <dc:creator>zhangbo</dc:creator>
  <dc:description/>
  <dc:language>en-US</dc:language>
  <cp:lastModifiedBy>Administrator</cp:lastModifiedBy>
  <dcterms:modified xsi:type="dcterms:W3CDTF">2015-09-02T09:41:47Z</dcterms:modified>
  <cp:revision>37</cp:revision>
  <dc:subject/>
  <dc:title>第三章 消费者的个性、自我概念与生活方式</dc:title>
</cp:coreProperties>
</file>